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213840" y="4384800"/>
            <a:ext cx="6504120" cy="4394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marL="190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ldImg"/>
          </p:nvPr>
        </p:nvSpPr>
        <p:spPr>
          <a:xfrm>
            <a:off x="885960" y="868320"/>
            <a:ext cx="502416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c8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055840" y="9218880"/>
            <a:ext cx="11134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ite: </a:t>
            </a:r>
            <a:fld id="{C7663D4C-C995-40F5-8A1A-50547D8FAB4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706320" y="9248760"/>
            <a:ext cx="531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716040" y="9264600"/>
            <a:ext cx="38084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PLC - Vortragsfolien</a:t>
            </a: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16040" y="9441000"/>
            <a:ext cx="3797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lf Osmers</a:t>
            </a: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338080" y="9391320"/>
            <a:ext cx="6728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1/10/98</a:t>
            </a: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6DCE-69D6-4209-9C53-42A9FAC149AC}" type="slidenum">
              <a:rPr b="1" lang="en-US" sz="2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BE4F5D0-04C6-44D4-881E-F82798EC4EB6}" type="slidenum">
              <a:rPr b="1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85960" y="868320"/>
            <a:ext cx="5024160" cy="3479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7436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00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7436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208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7360" y="-360"/>
            <a:ext cx="688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436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700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7436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6208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970-2FB7-4EF5-97CA-B8553C19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0DA-5276-4006-BBA7-59D5F85E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F45-5544-451C-8E7D-E369F928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2C6-DD19-453B-8AE4-8DF046E1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BF9-B094-4811-8107-015CB73B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7360" y="-360"/>
            <a:ext cx="688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A22-04D7-4643-B423-C10F3AC6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858-694B-44CB-B779-7084A60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99C-91AA-4468-ADF6-DCB1555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F49-2EAA-4F1C-882A-B312518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A89-1DEE-4F9A-B845-6A279AB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C0F-8C1D-4CBC-8F93-3FF1EF18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7436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700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7436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6208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577-539C-4C2D-B5D6-1798E28E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87360" y="-360"/>
            <a:ext cx="688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7436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700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7436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6208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D5B54-FDB2-4B76-B240-FE2FDB1F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3AE43-B20E-484B-AA0D-0FB7312B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AA46E-3533-4C9B-A8EB-B2B322E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573DF-E523-4A9A-8CFA-628A02E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88FE3-F914-44AF-83B1-DC6BAC15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87360" y="-360"/>
            <a:ext cx="688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95274-987B-47C6-B12F-9F65B82C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BE5F7-1C02-4878-841A-B1C5A87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82FE5-2A71-405F-BA08-07355B39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B7656-BDF9-4F45-ABEB-5B3E3B8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2289-D64C-4019-AE02-BCDE8380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DB4D7-C788-4735-99F8-6AD3395C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-360"/>
            <a:ext cx="688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7436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62080" y="160020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8700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7436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62080" y="3964320"/>
            <a:ext cx="29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3004D-EEAD-4D6E-9189-67D632E3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6280" y="396432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280" y="1600200"/>
            <a:ext cx="445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000" y="3964320"/>
            <a:ext cx="9131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179280"/>
            <a:ext cx="6237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438200"/>
            <a:ext cx="89154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ts val="2599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08120" indent="-168480">
              <a:lnSpc>
                <a:spcPts val="2599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69920" indent="-182520">
              <a:lnSpc>
                <a:spcPts val="2599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414440" indent="-165240">
              <a:lnSpc>
                <a:spcPts val="2599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25720" indent="-22860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25720" indent="-22860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25720" indent="-22860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4520" y="188640"/>
            <a:ext cx="6237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44160" y="141264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ts val="2599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11080" indent="-268200">
              <a:lnSpc>
                <a:spcPts val="2599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70000" indent="-179280">
              <a:lnSpc>
                <a:spcPts val="2599"/>
              </a:lnSpc>
              <a:spcBef>
                <a:spcPts val="1001"/>
              </a:spcBef>
              <a:buClr>
                <a:srgbClr val="003399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527120" indent="-177840">
              <a:lnSpc>
                <a:spcPts val="2599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86040" indent="-17964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86040" indent="-17964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86040" indent="-17964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0" name="Picture 6" descr="Bild3"/>
          <p:cNvPicPr/>
          <p:nvPr/>
        </p:nvPicPr>
        <p:blipFill>
          <a:blip r:embed="rId3"/>
          <a:stretch/>
        </p:blipFill>
        <p:spPr>
          <a:xfrm>
            <a:off x="8853480" y="115920"/>
            <a:ext cx="857160" cy="77292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10"/>
          <p:cNvSpPr/>
          <p:nvPr/>
        </p:nvSpPr>
        <p:spPr>
          <a:xfrm>
            <a:off x="5024520" y="4797360"/>
            <a:ext cx="115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8399520" y="628020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969696"/>
                </a:solidFill>
                <a:latin typeface="Arial"/>
              </a:rPr>
              <a:t>Seite </a:t>
            </a:r>
            <a:fld id="{FA4A7C8D-9EB6-41C3-88F0-814C64E71B3E}" type="slidenum">
              <a:rPr b="0" lang="de-DE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rafik 6" descr="logo.jpg"/>
          <p:cNvPicPr/>
          <p:nvPr/>
        </p:nvPicPr>
        <p:blipFill>
          <a:blip r:embed="rId2"/>
          <a:srcRect l="0" t="0" r="0" b="76789"/>
          <a:stretch/>
        </p:blipFill>
        <p:spPr>
          <a:xfrm>
            <a:off x="0" y="142920"/>
            <a:ext cx="9906120" cy="1238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c8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003c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003c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003c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1779120" y="6357960"/>
            <a:ext cx="13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91b0"/>
                </a:solidFill>
                <a:latin typeface="Verdana"/>
              </a:defRPr>
            </a:lvl1pPr>
          </a:lstStyle>
          <a:p>
            <a:pPr indent="0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831B-64A1-442B-9467-111E3D5616CD}" type="datetime">
              <a:rPr b="0" lang="de-DE" sz="1100" spc="-1" strike="noStrike">
                <a:solidFill>
                  <a:srgbClr val="8991b0"/>
                </a:solidFill>
                <a:latin typeface="Verdana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42800" y="6357960"/>
            <a:ext cx="3976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7119720" y="6357960"/>
            <a:ext cx="1104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100" spc="-1" strike="noStrike">
                <a:solidFill>
                  <a:srgbClr val="8991b0"/>
                </a:solidFill>
                <a:latin typeface="Verdana"/>
              </a:defRPr>
            </a:lvl1pPr>
          </a:lstStyle>
          <a:p>
            <a:pPr indent="0" algn="r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2DC-D29C-481C-8C6D-707BBF391479}" type="slidenum">
              <a:rPr b="0" lang="de-AT" sz="1100" spc="-1" strike="noStrike">
                <a:solidFill>
                  <a:srgbClr val="8991b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Grafik 8" descr="equis_homepage.jpg"/>
          <p:cNvPicPr/>
          <p:nvPr/>
        </p:nvPicPr>
        <p:blipFill>
          <a:blip r:embed="rId3"/>
          <a:stretch/>
        </p:blipFill>
        <p:spPr>
          <a:xfrm>
            <a:off x="154080" y="6000840"/>
            <a:ext cx="1163520" cy="736560"/>
          </a:xfrm>
          <a:prstGeom prst="rect">
            <a:avLst/>
          </a:prstGeom>
          <a:ln w="0">
            <a:noFill/>
          </a:ln>
        </p:spPr>
      </p:pic>
      <p:pic>
        <p:nvPicPr>
          <p:cNvPr id="86" name="Grafik 10" descr="wu_logo_neu_klein.jpg"/>
          <p:cNvPicPr/>
          <p:nvPr/>
        </p:nvPicPr>
        <p:blipFill>
          <a:blip r:embed="rId4"/>
          <a:stretch/>
        </p:blipFill>
        <p:spPr>
          <a:xfrm>
            <a:off x="8582040" y="6000840"/>
            <a:ext cx="1170000" cy="811080"/>
          </a:xfrm>
          <a:prstGeom prst="rect">
            <a:avLst/>
          </a:prstGeom>
          <a:ln w="0">
            <a:noFill/>
          </a:ln>
        </p:spPr>
      </p:pic>
      <p:pic>
        <p:nvPicPr>
          <p:cNvPr id="87" name="Grafik 9" descr="wu_logo_neu_klein.jpg"/>
          <p:cNvPicPr/>
          <p:nvPr/>
        </p:nvPicPr>
        <p:blipFill>
          <a:blip r:embed="rId5"/>
          <a:stretch/>
        </p:blipFill>
        <p:spPr>
          <a:xfrm>
            <a:off x="8582040" y="6000840"/>
            <a:ext cx="1170000" cy="81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rcRect l="34333" t="0" r="0" b="12447"/>
          <a:stretch/>
        </p:blipFill>
        <p:spPr>
          <a:xfrm>
            <a:off x="-1054080" y="0"/>
            <a:ext cx="73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8229600" y="404640"/>
            <a:ext cx="1114560" cy="976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2401920"/>
            <a:ext cx="184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173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560" y="179280"/>
            <a:ext cx="6237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58560" y="1438200"/>
            <a:ext cx="89154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ts val="2599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08120" indent="-168480">
              <a:lnSpc>
                <a:spcPts val="2599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69920" indent="-182520">
              <a:lnSpc>
                <a:spcPts val="2599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414440" indent="-165240">
              <a:lnSpc>
                <a:spcPts val="2599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25720" indent="-22860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25720" indent="-22860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25720" indent="-228600">
              <a:lnSpc>
                <a:spcPts val="25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Grafik 6" descr="logo.jpg"/>
          <p:cNvPicPr/>
          <p:nvPr/>
        </p:nvPicPr>
        <p:blipFill>
          <a:blip r:embed="rId2"/>
          <a:srcRect l="0" t="0" r="0" b="76789"/>
          <a:stretch/>
        </p:blipFill>
        <p:spPr>
          <a:xfrm>
            <a:off x="0" y="142920"/>
            <a:ext cx="9906120" cy="12380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8" descr="equis_homepage.jpg"/>
          <p:cNvPicPr/>
          <p:nvPr/>
        </p:nvPicPr>
        <p:blipFill>
          <a:blip r:embed="rId3"/>
          <a:stretch/>
        </p:blipFill>
        <p:spPr>
          <a:xfrm>
            <a:off x="154080" y="6000840"/>
            <a:ext cx="1163520" cy="736560"/>
          </a:xfrm>
          <a:prstGeom prst="rect">
            <a:avLst/>
          </a:prstGeom>
          <a:ln w="0">
            <a:noFill/>
          </a:ln>
        </p:spPr>
      </p:pic>
      <p:pic>
        <p:nvPicPr>
          <p:cNvPr id="168" name="Grafik 10" descr="wu_logo_neu_klein.jpg"/>
          <p:cNvPicPr/>
          <p:nvPr/>
        </p:nvPicPr>
        <p:blipFill>
          <a:blip r:embed="rId4"/>
          <a:stretch/>
        </p:blipFill>
        <p:spPr>
          <a:xfrm>
            <a:off x="8582040" y="6000840"/>
            <a:ext cx="1170000" cy="81108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9" descr="wu_logo_neu_klein.jpg"/>
          <p:cNvPicPr/>
          <p:nvPr/>
        </p:nvPicPr>
        <p:blipFill>
          <a:blip r:embed="rId5"/>
          <a:stretch/>
        </p:blipFill>
        <p:spPr>
          <a:xfrm>
            <a:off x="8582040" y="6000840"/>
            <a:ext cx="1170000" cy="81108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1" descr="logo.jpg"/>
          <p:cNvPicPr/>
          <p:nvPr/>
        </p:nvPicPr>
        <p:blipFill>
          <a:blip r:embed="rId6"/>
          <a:srcRect l="0" t="0" r="0" b="76789"/>
          <a:stretch/>
        </p:blipFill>
        <p:spPr>
          <a:xfrm>
            <a:off x="0" y="142920"/>
            <a:ext cx="9906120" cy="1238040"/>
          </a:xfrm>
          <a:prstGeom prst="rect">
            <a:avLst/>
          </a:prstGeom>
          <a:ln w="0">
            <a:noFill/>
          </a:ln>
        </p:spPr>
      </p:pic>
      <p:pic>
        <p:nvPicPr>
          <p:cNvPr id="171" name="Grafik 12" descr="equis_homepage.jpg"/>
          <p:cNvPicPr/>
          <p:nvPr/>
        </p:nvPicPr>
        <p:blipFill>
          <a:blip r:embed="rId7"/>
          <a:stretch/>
        </p:blipFill>
        <p:spPr>
          <a:xfrm>
            <a:off x="154080" y="6000840"/>
            <a:ext cx="1163520" cy="736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736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c8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003c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003c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003c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c87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4"/>
          </p:nvPr>
        </p:nvSpPr>
        <p:spPr>
          <a:xfrm>
            <a:off x="1779120" y="6357960"/>
            <a:ext cx="13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91b0"/>
                </a:solidFill>
                <a:latin typeface="Verdana"/>
              </a:defRPr>
            </a:lvl1pPr>
          </a:lstStyle>
          <a:p>
            <a:pPr indent="0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8551-CF24-4FD7-BDB6-E7B4DD458742}" type="datetime">
              <a:rPr b="0" lang="de-DE" sz="1100" spc="-1" strike="noStrike">
                <a:solidFill>
                  <a:srgbClr val="8991b0"/>
                </a:solidFill>
                <a:latin typeface="Verdana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5"/>
          </p:nvPr>
        </p:nvSpPr>
        <p:spPr>
          <a:xfrm>
            <a:off x="7119720" y="6357960"/>
            <a:ext cx="1104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100" spc="-1" strike="noStrike">
                <a:solidFill>
                  <a:srgbClr val="8991b0"/>
                </a:solidFill>
                <a:latin typeface="Verdana"/>
              </a:defRPr>
            </a:lvl1pPr>
          </a:lstStyle>
          <a:p>
            <a:pPr indent="0" algn="r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506-FFD9-4138-A0E9-1997C8DCBB3E}" type="slidenum">
              <a:rPr b="0" lang="de-AT" sz="1100" spc="-1" strike="noStrike">
                <a:solidFill>
                  <a:srgbClr val="8991b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6"/>
          </p:nvPr>
        </p:nvSpPr>
        <p:spPr>
          <a:xfrm>
            <a:off x="3142800" y="6357960"/>
            <a:ext cx="3976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5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Lokale%20Einstellungen/Temp/Misfittabelle%20f&#252;r%20Pr&#228;s%20von%20dichotomen.xlsx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7960" y="1000080"/>
            <a:ext cx="9539280" cy="28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99"/>
                </a:solidFill>
                <a:latin typeface="Calibri"/>
              </a:rPr>
              <a:t>Facets Rasch Software</a:t>
            </a: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Calibri"/>
              </a:rPr>
              <a:t>illustriert am Beispiel von </a:t>
            </a:r>
            <a:br>
              <a:rPr sz="3600"/>
            </a:br>
            <a:r>
              <a:rPr b="0" lang="de-DE" sz="3600" spc="-1" strike="noStrike">
                <a:solidFill>
                  <a:srgbClr val="003399"/>
                </a:solidFill>
                <a:latin typeface="Calibri"/>
              </a:rPr>
              <a:t>Multiple-Choice-Tests in Marketing </a:t>
            </a:r>
            <a:br>
              <a:rPr sz="3600"/>
            </a:br>
            <a:r>
              <a:rPr b="1" lang="de-DE" sz="1600" spc="-1" strike="noStrike">
                <a:solidFill>
                  <a:srgbClr val="003399"/>
                </a:solidFill>
                <a:latin typeface="Calibri"/>
              </a:rPr>
              <a:t>Margit Kastner, Amata Ring, Brigitte Stangl, Karin Teichmann</a:t>
            </a:r>
            <a:endParaRPr b="1" lang="en-US" sz="1600" spc="-1" strike="noStrike">
              <a:solidFill>
                <a:srgbClr val="003c87"/>
              </a:solidFill>
              <a:latin typeface="Verdana"/>
            </a:endParaRPr>
          </a:p>
        </p:txBody>
      </p:sp>
      <p:pic>
        <p:nvPicPr>
          <p:cNvPr id="222" name="Picture 219" descr=""/>
          <p:cNvPicPr/>
          <p:nvPr/>
        </p:nvPicPr>
        <p:blipFill>
          <a:blip r:embed="rId1"/>
          <a:stretch/>
        </p:blipFill>
        <p:spPr>
          <a:xfrm>
            <a:off x="2023920" y="4357800"/>
            <a:ext cx="4592880" cy="2273040"/>
          </a:xfrm>
          <a:prstGeom prst="rect">
            <a:avLst/>
          </a:prstGeom>
          <a:ln w="9360">
            <a:solidFill>
              <a:srgbClr val="003c87"/>
            </a:solidFill>
            <a:miter/>
          </a:ln>
        </p:spPr>
      </p:pic>
      <p:pic>
        <p:nvPicPr>
          <p:cNvPr id="223" name="Picture 217" descr=""/>
          <p:cNvPicPr/>
          <p:nvPr/>
        </p:nvPicPr>
        <p:blipFill>
          <a:blip r:embed="rId2"/>
          <a:stretch/>
        </p:blipFill>
        <p:spPr>
          <a:xfrm>
            <a:off x="5167440" y="3786120"/>
            <a:ext cx="1949400" cy="2781360"/>
          </a:xfrm>
          <a:prstGeom prst="rect">
            <a:avLst/>
          </a:prstGeom>
          <a:ln w="9360">
            <a:solidFill>
              <a:srgbClr val="003c87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Daten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9600" y="1071360"/>
            <a:ext cx="92520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Calibri"/>
              <a:buAutoNum type="arabicPeriod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Datenfile für </a:t>
            </a:r>
            <a:r>
              <a:rPr b="0" lang="de-AT" sz="2400" spc="-1" strike="noStrike">
                <a:solidFill>
                  <a:srgbClr val="c00000"/>
                </a:solidFill>
                <a:latin typeface="Calibri"/>
              </a:rPr>
              <a:t>2 Facets</a:t>
            </a: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: Prüfung_Bew01 </a:t>
            </a:r>
            <a:r>
              <a:rPr b="0" lang="de-AT" sz="2400" spc="-1" strike="noStrike">
                <a:solidFill>
                  <a:srgbClr val="c00000"/>
                </a:solidFill>
                <a:latin typeface="Calibri"/>
              </a:rPr>
              <a:t>(dichotom)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Marketing-Test im November 2008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N = 1118 StudentInnen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37 Fragen mit einer oder mehreren richtigen Antworten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Auswertungssystem: „Alles oder Nichts“ (dichotom)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ts val="998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Man bekommt einen Punkt, wenn alle richtigen Antworten markiert sind und keine falschen Antworten markiert sind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023840" y="3571920"/>
          <a:ext cx="7858080" cy="2500200"/>
        </p:xfrm>
        <a:graphic>
          <a:graphicData uri="http://schemas.openxmlformats.org/drawingml/2006/table">
            <a:tbl>
              <a:tblPr/>
              <a:tblGrid>
                <a:gridCol w="1122480"/>
                <a:gridCol w="1122480"/>
                <a:gridCol w="1122120"/>
                <a:gridCol w="1123920"/>
                <a:gridCol w="1122480"/>
                <a:gridCol w="1122480"/>
                <a:gridCol w="112212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ösu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ls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ls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k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Fitstatistiken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520" y="200016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Generelle Regeln (von FACETS)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Mean-squares show the size of randomness 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Expected value: 1.0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Value &gt; 1.0 indicates unpredictability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Value &lt; 1.0 indicates observations are too predictable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Near 1.0 indicates little distortion of the measurement system (regardless of Zstd value) </a:t>
            </a: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Widerspruch mit Bond / Fox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23840" y="1143000"/>
          <a:ext cx="7500960" cy="7142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sfit: die Daten werden durch das lineare, unidimensionale Rasch Modell nicht gut zusammengefass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880920" y="4214880"/>
          <a:ext cx="8358480" cy="1925640"/>
        </p:xfrm>
        <a:graphic>
          <a:graphicData uri="http://schemas.openxmlformats.org/drawingml/2006/table">
            <a:tbl>
              <a:tblPr/>
              <a:tblGrid>
                <a:gridCol w="1246320"/>
                <a:gridCol w="3556080"/>
                <a:gridCol w="1778040"/>
                <a:gridCol w="1778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-squa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pret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ispiel </a:t>
                      </a: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items geordnet leicht – schwer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1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Es ist 30% mehr Varianz in den Daten als vom Modell vorhergesag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0100111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010011110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Underfi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.7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Es ist 25% weniger Varianz in den Daten als vom Modell vorhergesag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1111100000 (Guttma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Overfi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Fitstatistiken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0520" y="1142640"/>
            <a:ext cx="92156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Guidelines (von Facets)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Look for negative bi-serial correlations and large response residuals </a:t>
            </a: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explain or eliminate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Zstd = acceptable if &lt;|2| or &lt;|3| (0.05 or 0.01)</a:t>
            </a:r>
            <a:br>
              <a:rPr sz="2000"/>
            </a:b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than no need to look further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Small proportion of misfitting element </a:t>
            </a:r>
            <a:br>
              <a:rPr sz="2000"/>
            </a:b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does not matter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If measurement improve without misfitting elements: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omit them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Outfit mean-square: influenced by outliers</a:t>
            </a:r>
            <a:br>
              <a:rPr sz="2400"/>
            </a:br>
            <a:r>
              <a:rPr b="0" lang="de-AT" sz="20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 easy to diagnose and remedy</a:t>
            </a:r>
            <a:br>
              <a:rPr sz="2000"/>
            </a:br>
            <a:r>
              <a:rPr b="0" lang="de-AT" sz="20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 Less threat to measurement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Infit mean-square: influenced by response patterns</a:t>
            </a:r>
            <a:br>
              <a:rPr sz="2400"/>
            </a:br>
            <a:r>
              <a:rPr b="0" lang="de-AT" sz="20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 hard to diagnose and remedy</a:t>
            </a:r>
            <a:br>
              <a:rPr sz="2000"/>
            </a:br>
            <a:r>
              <a:rPr b="0" lang="de-AT" sz="20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 Greater threat to measurement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„</a:t>
            </a: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Fit-Dilemma“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7000" y="1285560"/>
            <a:ext cx="9131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Mean-squares </a:t>
            </a:r>
            <a:r>
              <a:rPr b="0" lang="de-AT" sz="24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 1 mit größerer Stichprobengröße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Standardisieren 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(berücksichtigt (über Varianz) Stichprobengröße)</a:t>
            </a: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, aber: kleinster misfit wird signifikant!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Siehe </a:t>
            </a:r>
            <a:r>
              <a:rPr b="0" lang="de-AT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tem-Fitstatistiken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Daten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44520" y="1071720"/>
            <a:ext cx="9252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Calibri"/>
              <a:buAutoNum type="arabicPeriod" startAt="2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Datenfile für </a:t>
            </a:r>
            <a:r>
              <a:rPr b="0" lang="de-AT" sz="2400" spc="-1" strike="noStrike">
                <a:solidFill>
                  <a:srgbClr val="c00000"/>
                </a:solidFill>
                <a:latin typeface="Calibri"/>
              </a:rPr>
              <a:t>2 Facets</a:t>
            </a: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: Prüfung_Bew05 </a:t>
            </a:r>
            <a:r>
              <a:rPr b="0" lang="de-AT" sz="2400" spc="-1" strike="noStrike">
                <a:solidFill>
                  <a:srgbClr val="c00000"/>
                </a:solidFill>
                <a:latin typeface="Calibri"/>
              </a:rPr>
              <a:t>(polytom)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Marketing-Test im November 2008 (inkl. Befragungsdaten)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N = 206 StudentInnen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37 Fragen 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Auswertungssystem: „True/False“(polytom)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ts val="998"/>
              </a:lnSpc>
              <a:tabLst>
                <a:tab algn="l" pos="0"/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Man bekommt einen Punkt für jede korrekt markierte Antwortmöglichkeit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095480" y="3500280"/>
          <a:ext cx="7858080" cy="2500560"/>
        </p:xfrm>
        <a:graphic>
          <a:graphicData uri="http://schemas.openxmlformats.org/drawingml/2006/table">
            <a:tbl>
              <a:tblPr/>
              <a:tblGrid>
                <a:gridCol w="1122120"/>
                <a:gridCol w="1122480"/>
                <a:gridCol w="1122480"/>
                <a:gridCol w="1123920"/>
                <a:gridCol w="1122120"/>
                <a:gridCol w="1122480"/>
                <a:gridCol w="112248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ösu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ls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ls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k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Daten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9600" y="1071360"/>
            <a:ext cx="94298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Calibri"/>
              <a:buAutoNum type="arabicPeriod" startAt="3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Datenfile für </a:t>
            </a:r>
            <a:r>
              <a:rPr b="0" lang="de-AT" sz="2400" spc="-1" strike="noStrike">
                <a:solidFill>
                  <a:srgbClr val="c00000"/>
                </a:solidFill>
                <a:latin typeface="Calibri"/>
              </a:rPr>
              <a:t>4 Facets</a:t>
            </a: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: Prüfung_Bew05_4facets ...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Marketing-Test im November 2008 (inkl. Befragungsdaten)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N = 206 StudentInnen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37 Fragen 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Auswertungssystem: „True/False“(polytom)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c00000"/>
                </a:solidFill>
                <a:latin typeface="Calibri"/>
              </a:rPr>
              <a:t>Zusätzlich: Geschlecht, Lernbeginn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ts val="998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Man bekommt einen Punkt für jede korrekt markierte Antwortmöglichkeit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095480" y="3476520"/>
          <a:ext cx="7858080" cy="2452680"/>
        </p:xfrm>
        <a:graphic>
          <a:graphicData uri="http://schemas.openxmlformats.org/drawingml/2006/table">
            <a:tbl>
              <a:tblPr/>
              <a:tblGrid>
                <a:gridCol w="1122120"/>
                <a:gridCol w="1122480"/>
                <a:gridCol w="1122480"/>
                <a:gridCol w="1123920"/>
                <a:gridCol w="1122120"/>
                <a:gridCol w="1122480"/>
                <a:gridCol w="112248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ösu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ls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chti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lsc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k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Person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Bias Interaktion Berechnung</a:t>
            </a: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	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Bias = Interaktion, differential item function, differential person function…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Bias kann aufgrund jeder Form von Interaktion sein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Gründe für eine Bias Berechnung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Diagnose von Missfits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Validity Untersuchung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Bewertung des Bias Effekts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Partitionierung von nicht erklärter Error Varianz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Weitere Möglichkeiten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7000" y="160020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Gewichten von items (z.B.)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Daten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44520" y="1428480"/>
            <a:ext cx="92520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c87"/>
              </a:buClr>
              <a:buFont typeface="Arial"/>
              <a:buChar char="•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c87"/>
                </a:solidFill>
                <a:latin typeface="Calibri"/>
              </a:rPr>
              <a:t>Datenfile für Facets: Prüfung_Bew100</a:t>
            </a:r>
            <a:endParaRPr b="0" lang="en-US" sz="2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Marketing-Test im November 2008 (inkl. Befragungsdaten)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N = 206 StudentInn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37 Fragen mit einer oder mehreren richtigen Antwort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Auswertungssystem: „Teilpunkte“ – in Prozent angegeb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Zusätzlich: Geschlecht, Lernbeginn, Note, Muttersprache, Prüfungen, Interesse und Frag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c87"/>
              </a:buClr>
              <a:buFont typeface="Arial"/>
              <a:buChar char="•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c87"/>
                </a:solidFill>
                <a:latin typeface="Calibri"/>
              </a:rPr>
              <a:t>Datenfile für Facets: Prüfung_Vergleich</a:t>
            </a:r>
            <a:endParaRPr b="0" lang="en-US" sz="2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Marketing-Test im November 2008 (inkl. Befragungsdaten)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N = 206 StudentInn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37 Fragen mit einer oder mehreren richtigen Antwort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r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2 verschiedene Auswertungssysteme im Vergleich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Auswertung der Fragen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66680" y="1213920"/>
            <a:ext cx="97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Alles oder Nichts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Man bekommt einen Punkt, wenn alle richtigen Antworten markiert sind und keine falschen Antworten markiert sind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True/False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Man bekommt einen Punkt für jede richtig markierte Antwortmöglichkeit und einen Punkt für jede nicht markierte falsche Antwortmöglichkeit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Teilpunkte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7"/>
                </a:solidFill>
                <a:latin typeface="Calibri"/>
              </a:rPr>
              <a:t>Jeder Aufgabe ist eine maximale Punkteanzahl (max) zugewiesen. Weiters gibt es eine Anzahl von richtigen (r) und falschen (f) Antwortalternativen. Für jede richtig angekreuzte Alternative werden max/r Punkte vergeben und für jede falsch angekreuzte Alternative werden max/f Punkte abgezogen. Es werden keine negativen Punkte vergeben. 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c87"/>
                </a:solidFill>
                <a:latin typeface="Calibri"/>
              </a:rPr>
              <a:t>Wenn eine Frage nur eine falsche Alternative besitzt (und diese angekreuzt war), wird nur die Hälfte der Punkte, also max/2 und nicht max/f, abgezogen. 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•"/>
              <a:tabLst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979800" y="288144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0"/>
            <a:ext cx="184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2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Überblick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520" y="1213920"/>
            <a:ext cx="9131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Grundlagen Rasch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Polytomes Rasch-Modell vs. Many Facet Rasch-Modell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Many Facet Rasch Modell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Grundlag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Besonderheit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Ergebnisse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WINSTEPS vs. FACETS 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FACETS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Daten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Vorstellung Software und Beispielberechnung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-360" y="2356920"/>
            <a:ext cx="99061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c87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c87"/>
                </a:solidFill>
                <a:latin typeface="Verdana"/>
              </a:rPr>
              <a:t>Thank  you for your attention!</a:t>
            </a:r>
            <a:endParaRPr b="0" lang="en-US" sz="2100" spc="-1" strike="noStrike">
              <a:solidFill>
                <a:srgbClr val="003c87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c8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c87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c87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c87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c87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c87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c87"/>
              </a:solidFill>
              <a:latin typeface="Verdan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3946680" y="2928960"/>
            <a:ext cx="20127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Grundlagen: Rasch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1214280"/>
            <a:ext cx="90378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Numerische Ratings eines Probanden werden aufsummiert in raw scores 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Performance Level ist verzerrt durch: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Strenge des Beurteilers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Schwierigkeit der Items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Interaktion zwischen Proband, Beurteiler und Item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Fehler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ZIEL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ts val="1599"/>
              </a:lnSpc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Anforderung: Unidimensionalität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66760" y="4143240"/>
          <a:ext cx="7500960" cy="107172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1071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mwandlung der nicht-linearen raw scores jedes Probanden in ein lineares Maß, </a:t>
                      </a:r>
                      <a:br>
                        <a:rPr sz="2000"/>
                      </a:br>
                      <a:r>
                        <a:rPr b="1" lang="de-A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rrigiert um Item- und Beurteiler-Fehlervarian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Rasch vs. Many Facet Rasch Modell 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44160" y="1643040"/>
            <a:ext cx="89154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Basis für MFRM bildet das polytome Rasch-Modell erweitert um: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Andere Variablen wie z.B. Cj (Strenge des Beurteilers)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Kontrolle der Übereinstimmung zwischen Daten und Modell durch Fit-Statistiken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Robust gegen Missfit (div. Störquellen in Daten z.B. inkonsistente Beurteilung/Aufgaben/Personen)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Analyse unterschiedlicher Biases: Beurteiler/Item/Person, systematisch &amp; zufällig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Robust gegen fehlende Daten (Schätzung nur für jene Daten, die tatsächlich beobachtet wurden)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Maße haben geometrische Eigenschaften 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5738760" y="1262160"/>
            <a:ext cx="3162240" cy="23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Grundlagen des MFRM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44160" y="1142640"/>
            <a:ext cx="9109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Element = Person, BeurteilerIn, Aufgabe, Item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Facet = Personen, Aufgaben, Items und/oder BeurteilerInnen 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Lineare Maße aus qualitativen, geordneten Zähldaten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Basismodell für Beobachtung Xnmij: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Bn: Fähigkeit der Person n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c00000"/>
                </a:solidFill>
                <a:latin typeface="Calibri"/>
              </a:rPr>
              <a:t>Am: Herausforderung der Aufgabe m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Di: Itemschwierigkeit des Items i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c00000"/>
                </a:solidFill>
                <a:latin typeface="Calibri"/>
              </a:rPr>
              <a:t>Cj: Strenge des Beurteilers (=„Judge“) j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Fk: Barriere in Kategorie k beobachtet zu werden im Unterschied zu Kategorie k-1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Pnmijk: Wahrscheinlichkeit, dass Kategorie k beobachtet wird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Pnmij (k-1): Wahrscheinlichkeit, dass Kategorie k-1 beobachtet wird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95520" y="3071880"/>
          <a:ext cx="6603840" cy="428400"/>
        </p:xfrm>
        <a:graphic>
          <a:graphicData uri="http://schemas.openxmlformats.org/drawingml/2006/table">
            <a:tbl>
              <a:tblPr/>
              <a:tblGrid>
                <a:gridCol w="6603840"/>
              </a:tblGrid>
              <a:tr h="428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Log ( Pnmijk / Pnmij (k-1) ) = Bn – </a:t>
                      </a:r>
                      <a:r>
                        <a:rPr b="1" lang="de-AT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m</a:t>
                      </a:r>
                      <a:r>
                        <a:rPr b="1" lang="de-AT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 – Di – </a:t>
                      </a:r>
                      <a:r>
                        <a:rPr b="1" lang="de-AT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j </a:t>
                      </a:r>
                      <a:r>
                        <a:rPr b="1" lang="de-AT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– Fk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Besonderheiten von MFRM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4160" y="1285920"/>
            <a:ext cx="9394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3c87"/>
                </a:solidFill>
                <a:latin typeface="Calibri"/>
              </a:rPr>
              <a:t>Für jedes Element werden ein lineares Maß, der Standarderror (Genauigkeit) und 5 Fitstatistiken (Validität) berechnet</a:t>
            </a:r>
            <a:endParaRPr b="0" lang="en-US" sz="22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 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Interaktionen verzerren Messfehler und werden durch (quality control) Fitstatistiken ermittelt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3c87"/>
                </a:solidFill>
                <a:latin typeface="Calibri"/>
              </a:rPr>
              <a:t>Ziele</a:t>
            </a:r>
            <a:endParaRPr b="0" lang="en-US" sz="22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Antwortformate können kalibriert werden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Interaktionen zwischen Elementen unterschiedlicher „facets“ können berechnet werden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Item-bias und Judge-bias identifizierbar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Alle Schätzungen auf </a:t>
            </a:r>
            <a:r>
              <a:rPr b="0" lang="de-AT" sz="1800" spc="-1" strike="noStrike" u="sng">
                <a:solidFill>
                  <a:srgbClr val="003c87"/>
                </a:solidFill>
                <a:uFillTx/>
                <a:latin typeface="Calibri"/>
              </a:rPr>
              <a:t>einer</a:t>
            </a:r>
            <a:r>
              <a:rPr b="0" lang="de-AT" sz="1800" spc="-1" strike="noStrike">
                <a:solidFill>
                  <a:srgbClr val="003c87"/>
                </a:solidFill>
                <a:latin typeface="Calibri"/>
              </a:rPr>
              <a:t> Messskala abgebildet</a:t>
            </a:r>
            <a:endParaRPr b="0" lang="en-US" sz="18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3c87"/>
                </a:solidFill>
                <a:latin typeface="Calibri"/>
              </a:rPr>
              <a:t>Typische Anwendungsbereiche: Beurteilung von Aufsätzen</a:t>
            </a:r>
            <a:endParaRPr b="0" lang="en-US" sz="2200" spc="-1" strike="noStrike">
              <a:solidFill>
                <a:srgbClr val="003c87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95480" y="4929120"/>
          <a:ext cx="7500960" cy="71460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714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zit: aus qualitativen Beobachtungen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are Maße erzeugen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Ergebnisse MFRM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520" y="128592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Schätzungen unterschiedlicher Elemente werden auf einer einzigen Messskala aufgetragen, 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relativen Status der Elemente innerhalb eines Facets,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Beziehungen zwischen verschiedenen Facets als Wahrscheinlichkeiten,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c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3c87"/>
                </a:solidFill>
                <a:latin typeface="Calibri"/>
              </a:rPr>
              <a:t>Einheit der Wahrscheinlichkeiten als Logits.</a:t>
            </a:r>
            <a:endParaRPr b="0" lang="en-US" sz="20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Beispiel: </a:t>
            </a:r>
            <a:br>
              <a:rPr sz="2400"/>
            </a:b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Person A wird von einem besonders nachsichtigen Beurteiler über eine besonders leichte Aufgabe geprüft und Person B wird von einem strengen Beurteiler über eine schwierige Aufgabe geprüft: Fähigkeitsparameter für A und B annähernd gleich – bis auf den Standardfehler.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Grundlagen: FACETS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4160" y="1856880"/>
            <a:ext cx="91803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Software für Rasch-Modelle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Windows basierte Software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Aufbauend auf WINSTEPS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Program Manual by John M. Linacre (http://www.winsteps.com/a/facets.pdf)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Anwendungen hauptsächlich im medizinischen Bereich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c87"/>
                </a:solidFill>
                <a:latin typeface="Calibri"/>
              </a:rPr>
              <a:t>Estimation: JML (Joint maximum likelihood -&gt; nicht veränderbar)</a:t>
            </a: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87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c87"/>
                </a:solidFill>
                <a:latin typeface="Calibri"/>
              </a:rPr>
              <a:t>WINSTEPS vs. FACETS</a:t>
            </a:r>
            <a:endParaRPr b="1" lang="en-US" sz="2800" spc="-1" strike="noStrike">
              <a:solidFill>
                <a:srgbClr val="003c87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80880" y="1285920"/>
          <a:ext cx="9286920" cy="5073480"/>
        </p:xfrm>
        <a:graphic>
          <a:graphicData uri="http://schemas.openxmlformats.org/drawingml/2006/table">
            <a:tbl>
              <a:tblPr/>
              <a:tblGrid>
                <a:gridCol w="1890720"/>
                <a:gridCol w="3368880"/>
                <a:gridCol w="402732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INSTEP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E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4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Data Layou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Rectangular: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2-facet:persons &amp; item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2-facet: persons &amp; item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3-facet: persons, items, judg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4-facet: persons, items, judges, occas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5-to 255 facet: paired comparison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and more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9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Data capac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999.999 persons by 30.000 item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999.999 persons + items + judges +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Report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30 + major tables, files, plots, graph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8 + major tables, files, plots, graph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Conceptualization &amp; Interpret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Simpler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More comp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Adv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Use Winsteps if possible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e.g. paired comparisons, judged perform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c87"/>
                          </a:solidFill>
                          <a:latin typeface="Calibri"/>
                        </a:rPr>
                        <a:t>Use Facets if Winsteps won‘t do the jo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3:28:39Z</dcterms:created>
  <dc:creator>Paral</dc:creator>
  <dc:description/>
  <cp:keywords/>
  <dc:language>en-US</dc:language>
  <cp:lastModifiedBy>konmann</cp:lastModifiedBy>
  <cp:lastPrinted>1999-12-22T16:25:08Z</cp:lastPrinted>
  <dcterms:modified xsi:type="dcterms:W3CDTF">2009-11-14T14:25:47Z</dcterms:modified>
  <cp:revision>276</cp:revision>
  <dc:subject/>
  <dc:title>Methode XY</dc:title>
</cp:coreProperties>
</file>