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8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39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13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D041-BD6D-4D94-8893-C1154A9C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A4C1-80CD-4D7E-82CF-7E6835D8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436E9-4E9F-4F59-8162-9F8BEC2C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E81A-F3E3-4625-AB14-EC2018B3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57F3-884C-4C8B-B6AD-E6F179C7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B017-3D3B-4852-999A-8288A82F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3283-8950-48B7-84D5-65E5FF1E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55D4-CA79-42CB-9591-04FA8346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A7C4-AC36-44E8-BD9B-08289E4C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8CF4-24F1-4E89-8F8C-0E4FAB14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362F-7483-4521-AD71-E660F816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BAEA-A19E-40D4-B214-89ED6D6F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D738-2576-4F63-BE15-312AE3ED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E2DB-2729-4CB3-A96E-7B38ACB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7F56-3950-472A-85D3-880CCEEC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9D83-D30E-4342-BC16-87E5EB82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58ED-6446-4C39-9E6A-98F5FFF8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9E83-5FA8-4FEA-A6A4-47D717B2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FEB7-F3C6-412B-BCE9-CD6DFE92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43E3-1F70-437C-BFB0-328122C1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50D1-E0AC-4177-87E6-7F32A6DA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34C1-3AFA-45A8-BBF5-9FD3EEFE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3C68-C9CC-414F-96C6-B6EE2331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44A1-0B1E-4411-8E14-A6877792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0F5D-EBC2-4126-B11E-7B4E4BDA0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rcRect l="14073" t="14893" r="66052" b="70217"/>
          <a:stretch/>
        </p:blipFill>
        <p:spPr>
          <a:xfrm>
            <a:off x="8101080" y="138240"/>
            <a:ext cx="8636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8A69-0BAF-4952-8C70-9711BEBCF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983960"/>
            <a:ext cx="5686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300" spc="-1" strike="noStrike">
                <a:solidFill>
                  <a:srgbClr val="ffffff"/>
                </a:solidFill>
                <a:latin typeface="Arial"/>
              </a:rPr>
              <a:t>ConQuest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42880" y="4339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Julia Anette von Poswik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Bernadett Pau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Thomas Rus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4760" y="61578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12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chotomously scored MC Te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mand fil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5075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atafi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gt;&gt; Name des 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gt;&gt; Layout der Daten in ex1.dat &gt;&gt; wichtig: im format statement muss man angeben, in welchen Spalten sich die Antworten befinde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abel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gt;&gt; darf nur Text sein! Labels sind nicht erforderlich, verbessern aber die Lesbarkeit des Printou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ey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&gt; gibt die richtige Antwort für die Multiple Choice Items an; 1 &gt;&gt; richtige Antworten werden mit 1, falsche mit 0 bewer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gt;&gt; gibt den Namen der Variable an, die die zu analysierenden Daten identifiziert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chotomously scored MC Te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mand file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&gt;&gt; Befehl zur Durchführung der Schätzu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Show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&gt;&gt; die Ergebnisse werden in ex1.shw im aktuellen Ordner dargestell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Itanal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&gt;&gt; zeigt die Ergebnisse einer traditionellen Item-Analyse und wird in ex1.itn dargestell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Plot icc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&gt;&gt; erstellt eine Graphik pro Item, die die modellierten und die empirischen Item-Charakteristikkurven vergleiche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Plot mcc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&gt;&gt; erstellt eine Graphik pro Item, die einerseits die modellierten und empirischen Item-Charakteristikkurven vergleichen (für richtige Antworten), andererseits das Verhalten von Distractors darstelle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chotomously scored MC Te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utput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24000" y="2187720"/>
            <a:ext cx="8569080" cy="3617640"/>
            <a:chOff x="324000" y="2187720"/>
            <a:chExt cx="8569080" cy="361764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rcRect l="0" t="43224" r="19772" b="13072"/>
            <a:stretch/>
          </p:blipFill>
          <p:spPr>
            <a:xfrm>
              <a:off x="324000" y="2187720"/>
              <a:ext cx="8569080" cy="36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859280" y="2500200"/>
              <a:ext cx="266544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diesem Bsp. 46 Iterationen – Auszug zeigt Iteration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348000" y="2642760"/>
              <a:ext cx="1511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59280" y="3147840"/>
              <a:ext cx="26654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rianz nach 4 Iteration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484000" y="3292200"/>
              <a:ext cx="237492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59280" y="3625560"/>
              <a:ext cx="26654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ean nach 4 Iteration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484000" y="3723840"/>
              <a:ext cx="237492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59280" y="4327200"/>
              <a:ext cx="266544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ränderungen nach 4 Iteration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284720" y="4400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chotomously scored MC Te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utput - Ex1.shw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95280" y="1606680"/>
            <a:ext cx="8497800" cy="4957560"/>
            <a:chOff x="395280" y="1606680"/>
            <a:chExt cx="8497800" cy="495756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rcRect l="393" t="0" r="20729" b="45284"/>
            <a:stretch/>
          </p:blipFill>
          <p:spPr>
            <a:xfrm>
              <a:off x="395280" y="1606680"/>
              <a:ext cx="849780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292720" y="3119400"/>
              <a:ext cx="3024360" cy="9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3 Parameter wurden geschätzt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ittelwert und Varian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1 Item Difficulty Para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347640" y="3622320"/>
              <a:ext cx="1871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chotomously scored MC Te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utput – Ex1.shw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28760" y="1676520"/>
            <a:ext cx="8535960" cy="4841640"/>
            <a:chOff x="428760" y="1676520"/>
            <a:chExt cx="8535960" cy="484164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rcRect l="585" t="0" r="21493" b="45897"/>
            <a:stretch/>
          </p:blipFill>
          <p:spPr>
            <a:xfrm>
              <a:off x="428760" y="1676520"/>
              <a:ext cx="8208720" cy="445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1476360" y="1955520"/>
              <a:ext cx="7128000" cy="1439280"/>
              <a:chOff x="1476360" y="1955520"/>
              <a:chExt cx="7128000" cy="1439280"/>
            </a:xfrm>
          </p:grpSpPr>
          <p:sp>
            <p:nvSpPr>
              <p:cNvPr id="161" name=""/>
              <p:cNvSpPr/>
              <p:nvPr/>
            </p:nvSpPr>
            <p:spPr>
              <a:xfrm>
                <a:off x="6227640" y="1955520"/>
                <a:ext cx="2376720" cy="1159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Parameterschätzungen (Maximum Likelihood) für jeden Ausdruck im Modell &gt;&gt; wir haben nur einen Ausdruck  = Ite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1476360" y="2387160"/>
                <a:ext cx="4751280" cy="10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851280" y="3324240"/>
              <a:ext cx="5113440" cy="2762640"/>
              <a:chOff x="3851280" y="3324240"/>
              <a:chExt cx="5113440" cy="2762640"/>
            </a:xfrm>
          </p:grpSpPr>
          <p:sp>
            <p:nvSpPr>
              <p:cNvPr id="164" name=""/>
              <p:cNvSpPr/>
              <p:nvPr/>
            </p:nvSpPr>
            <p:spPr>
              <a:xfrm>
                <a:off x="6588000" y="3324240"/>
                <a:ext cx="2376720" cy="276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Unweighted fit (Outfit)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= the squared standardized residuals are devided by the total number of respond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Weighted fit (Infit)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= the squared standarized residual is multiplied by the observed response variance and then divided by the sum of the item response variances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851280" y="3395160"/>
                <a:ext cx="27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851280" y="3395160"/>
                <a:ext cx="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435640" y="3395160"/>
                <a:ext cx="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1547640" y="5784840"/>
              <a:ext cx="468000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NSQ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:  Konfidenzintervall = 95 %, Fit-Statistik außerhalb &gt;&gt; Null-Hypothese wird verworfen, dass die Daten dem Modell entsprechen; T-Statistik &gt;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3419280" y="3971520"/>
              <a:ext cx="865080" cy="179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266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chotomously scored MC Te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utput – Ex1.shw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68360" y="1701720"/>
            <a:ext cx="8280360" cy="4896000"/>
            <a:chOff x="468360" y="1701720"/>
            <a:chExt cx="8280360" cy="4896000"/>
          </a:xfrm>
        </p:grpSpPr>
        <p:grpSp>
          <p:nvGrpSpPr>
            <p:cNvPr id="172" name=""/>
            <p:cNvGrpSpPr/>
            <p:nvPr/>
          </p:nvGrpSpPr>
          <p:grpSpPr>
            <a:xfrm>
              <a:off x="468360" y="1701720"/>
              <a:ext cx="8280360" cy="4896000"/>
              <a:chOff x="468360" y="1701720"/>
              <a:chExt cx="8280360" cy="489600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rcRect l="1004" t="0" r="21992" b="43671"/>
              <a:stretch/>
            </p:blipFill>
            <p:spPr>
              <a:xfrm>
                <a:off x="468360" y="1701720"/>
                <a:ext cx="8280360" cy="489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 txBox="1"/>
              <p:nvPr/>
            </p:nvSpPr>
            <p:spPr>
              <a:xfrm>
                <a:off x="468360" y="1701720"/>
                <a:ext cx="8280360" cy="489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6229440" y="1701720"/>
              <a:ext cx="2519280" cy="115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eparation Reliability: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in = 0, max = 1, zeigt wie gut die Parameter getrennt sind, steigt mit steigender Stichprobenanzah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629080" y="2276640"/>
              <a:ext cx="3527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9440" y="3284640"/>
              <a:ext cx="25192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hi-square: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ignifik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995640" y="2852280"/>
              <a:ext cx="216036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29440" y="4221000"/>
              <a:ext cx="251928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ean: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ean of the latent ability 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564000" y="429408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29440" y="5589720"/>
              <a:ext cx="251928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Variance: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ariance of the latent ability 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988000" y="587700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chotomously scored MC Te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utput – Ex1.shw (IV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7360" y="1619280"/>
            <a:ext cx="8675640" cy="5089320"/>
            <a:chOff x="117360" y="1619280"/>
            <a:chExt cx="8675640" cy="5089320"/>
          </a:xfrm>
        </p:grpSpPr>
        <p:grpSp>
          <p:nvGrpSpPr>
            <p:cNvPr id="185" name=""/>
            <p:cNvGrpSpPr/>
            <p:nvPr/>
          </p:nvGrpSpPr>
          <p:grpSpPr>
            <a:xfrm>
              <a:off x="117360" y="1836720"/>
              <a:ext cx="8229600" cy="4525920"/>
              <a:chOff x="117360" y="1836720"/>
              <a:chExt cx="8229600" cy="4525920"/>
            </a:xfrm>
          </p:grpSpPr>
          <p:pic>
            <p:nvPicPr>
              <p:cNvPr id="1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7360" y="1836720"/>
                <a:ext cx="8229600" cy="452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 txBox="1"/>
              <p:nvPr/>
            </p:nvSpPr>
            <p:spPr>
              <a:xfrm>
                <a:off x="117360" y="1836720"/>
                <a:ext cx="8229600" cy="452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" descr=""/>
            <p:cNvPicPr/>
            <p:nvPr/>
          </p:nvPicPr>
          <p:blipFill>
            <a:blip r:embed="rId2"/>
            <a:srcRect l="0" t="0" r="15775" b="19956"/>
            <a:stretch/>
          </p:blipFill>
          <p:spPr>
            <a:xfrm>
              <a:off x="512640" y="1619280"/>
              <a:ext cx="8280360" cy="50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233360" y="4457520"/>
              <a:ext cx="1943280" cy="15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anel ist für die Darstellung von latent ability distribution reserviert (&gt;&gt; durch Hinzufügen einer Option zu „Show“ oder „Estimate“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97360" y="3160800"/>
              <a:ext cx="1942920" cy="22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diesem Panel werden die Items nach ihrer Schwierigkeit dargestell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tem 5 = schwierigstes I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tem 9 = leichtestes I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chotomously scored MC Te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utput – Ex1.itn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11280" y="1773360"/>
            <a:ext cx="7848360" cy="4646160"/>
            <a:chOff x="611280" y="1773360"/>
            <a:chExt cx="7848360" cy="4646160"/>
          </a:xfrm>
        </p:grpSpPr>
        <p:grpSp>
          <p:nvGrpSpPr>
            <p:cNvPr id="193" name=""/>
            <p:cNvGrpSpPr/>
            <p:nvPr/>
          </p:nvGrpSpPr>
          <p:grpSpPr>
            <a:xfrm>
              <a:off x="612720" y="1981080"/>
              <a:ext cx="7846920" cy="3735360"/>
              <a:chOff x="612720" y="1981080"/>
              <a:chExt cx="7846920" cy="3735360"/>
            </a:xfrm>
          </p:grpSpPr>
          <p:pic>
            <p:nvPicPr>
              <p:cNvPr id="194" name="" descr=""/>
              <p:cNvPicPr/>
              <p:nvPr/>
            </p:nvPicPr>
            <p:blipFill>
              <a:blip r:embed="rId1"/>
              <a:srcRect l="251" t="0" r="24499" b="51634"/>
              <a:stretch/>
            </p:blipFill>
            <p:spPr>
              <a:xfrm>
                <a:off x="612720" y="1981080"/>
                <a:ext cx="7846920" cy="373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 txBox="1"/>
              <p:nvPr/>
            </p:nvSpPr>
            <p:spPr>
              <a:xfrm>
                <a:off x="612720" y="1981080"/>
                <a:ext cx="7846920" cy="373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6443640" y="1773360"/>
              <a:ext cx="1800360" cy="265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oint-biseral correlatio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: Korrelation zwischen der Gesamtpunktezahl der Studenten und einem Indikator, der den Wert 1 annimmt, wenn die Frage richtig beantwortet wurde und 0, wenn nicht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1280" y="5035680"/>
              <a:ext cx="122400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ültige Antworten im 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1042560" y="486864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17720" y="5046840"/>
              <a:ext cx="179064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nkte, die den einzelnen Antworten zugewiesen si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1835280" y="4723920"/>
              <a:ext cx="288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24360" y="5046840"/>
              <a:ext cx="1790640" cy="13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zahl und Prozentsatz der Studenten, die die jeweiligen Antworten gewählt hab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40360" y="49417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268360" y="4941720"/>
              <a:ext cx="18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268360" y="4797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987640" y="4797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43640" y="5084640"/>
              <a:ext cx="179064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-Wert ist der T-Test für die point-biseral corre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4427640" y="3933360"/>
              <a:ext cx="223200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492360" y="2565360"/>
              <a:ext cx="295128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chotomously scored MC Te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utput – Ex1.itn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01480" y="1711440"/>
            <a:ext cx="8353440" cy="4897440"/>
            <a:chOff x="501480" y="1711440"/>
            <a:chExt cx="8353440" cy="4897440"/>
          </a:xfrm>
        </p:grpSpPr>
        <p:grpSp>
          <p:nvGrpSpPr>
            <p:cNvPr id="211" name=""/>
            <p:cNvGrpSpPr/>
            <p:nvPr/>
          </p:nvGrpSpPr>
          <p:grpSpPr>
            <a:xfrm>
              <a:off x="501480" y="1711440"/>
              <a:ext cx="8353440" cy="4897440"/>
              <a:chOff x="501480" y="1711440"/>
              <a:chExt cx="8353440" cy="4897440"/>
            </a:xfrm>
          </p:grpSpPr>
          <p:pic>
            <p:nvPicPr>
              <p:cNvPr id="212" name="" descr=""/>
              <p:cNvPicPr/>
              <p:nvPr/>
            </p:nvPicPr>
            <p:blipFill>
              <a:blip r:embed="rId1"/>
              <a:srcRect l="1004" t="0" r="15875" b="54823"/>
              <a:stretch/>
            </p:blipFill>
            <p:spPr>
              <a:xfrm>
                <a:off x="501480" y="1711440"/>
                <a:ext cx="8353440" cy="489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 txBox="1"/>
              <p:nvPr/>
            </p:nvSpPr>
            <p:spPr>
              <a:xfrm>
                <a:off x="501480" y="1711440"/>
                <a:ext cx="8353440" cy="489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189480" y="3727440"/>
              <a:ext cx="2089440" cy="115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inige traditionelle Statistiken werden nicht berechnet, wenn mehr als 10 % der Daten fehl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2085480" y="3511440"/>
              <a:ext cx="410364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chotomously scored MC Te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utput – plot i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042920" y="1727280"/>
            <a:ext cx="7345440" cy="4897440"/>
            <a:chOff x="1042920" y="1727280"/>
            <a:chExt cx="7345440" cy="4897440"/>
          </a:xfrm>
        </p:grpSpPr>
        <p:grpSp>
          <p:nvGrpSpPr>
            <p:cNvPr id="218" name=""/>
            <p:cNvGrpSpPr/>
            <p:nvPr/>
          </p:nvGrpSpPr>
          <p:grpSpPr>
            <a:xfrm>
              <a:off x="1042920" y="1727280"/>
              <a:ext cx="7345440" cy="4897440"/>
              <a:chOff x="1042920" y="1727280"/>
              <a:chExt cx="7345440" cy="4897440"/>
            </a:xfrm>
          </p:grpSpPr>
          <p:pic>
            <p:nvPicPr>
              <p:cNvPr id="219" name="" descr=""/>
              <p:cNvPicPr/>
              <p:nvPr/>
            </p:nvPicPr>
            <p:blipFill>
              <a:blip r:embed="rId1"/>
              <a:srcRect l="12232" t="19713" r="12385" b="8664"/>
              <a:stretch/>
            </p:blipFill>
            <p:spPr>
              <a:xfrm>
                <a:off x="1042920" y="1727280"/>
                <a:ext cx="7345440" cy="489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 txBox="1"/>
              <p:nvPr/>
            </p:nvSpPr>
            <p:spPr>
              <a:xfrm>
                <a:off x="1042920" y="1727280"/>
                <a:ext cx="7345440" cy="489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435280" y="3959280"/>
              <a:ext cx="2448000" cy="115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rgleich der empirischen Item-Charakteristik-Kurve (gebrochene Linie) mit der modellierten Item-Charakteristik-Kurv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at is ConQu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chotomously scored multiple choic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alysis of rat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chotomously scored MC Te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utput – plot m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28720" y="1630440"/>
            <a:ext cx="7488000" cy="5111640"/>
            <a:chOff x="828720" y="1630440"/>
            <a:chExt cx="7488000" cy="5111640"/>
          </a:xfrm>
        </p:grpSpPr>
        <p:grpSp>
          <p:nvGrpSpPr>
            <p:cNvPr id="224" name=""/>
            <p:cNvGrpSpPr/>
            <p:nvPr/>
          </p:nvGrpSpPr>
          <p:grpSpPr>
            <a:xfrm>
              <a:off x="828720" y="1630440"/>
              <a:ext cx="7488000" cy="5111640"/>
              <a:chOff x="828720" y="1630440"/>
              <a:chExt cx="7488000" cy="5111640"/>
            </a:xfrm>
          </p:grpSpPr>
          <p:pic>
            <p:nvPicPr>
              <p:cNvPr id="225" name="" descr=""/>
              <p:cNvPicPr/>
              <p:nvPr/>
            </p:nvPicPr>
            <p:blipFill>
              <a:blip r:embed="rId1"/>
              <a:srcRect l="11497" t="13363" r="13253" b="16627"/>
              <a:stretch/>
            </p:blipFill>
            <p:spPr>
              <a:xfrm>
                <a:off x="828720" y="1630440"/>
                <a:ext cx="7488000" cy="511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 txBox="1"/>
              <p:nvPr/>
            </p:nvSpPr>
            <p:spPr>
              <a:xfrm>
                <a:off x="828720" y="1630440"/>
                <a:ext cx="7488000" cy="511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508720" y="4136760"/>
              <a:ext cx="2665440" cy="115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Zeigt neben der empirischen und modellierten Item-Charakteristik-Kurven auch die Charakteristiken der falschen Antworten (Distracto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nalysis of rater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acre (1994): three-faceted measurement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ject of measurement: performance of 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gent of measur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: test items / assessment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t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sh vs. lenient jud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consistent inter-rater ju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ample: responses to a single writing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8296 students´ writing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ach graded by two raters (out of 16 ra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: overall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F: textual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x point scale: G, H, I, J, K, L (increasing levels of perform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ssing rating: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nalysis of rater effects 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835280" y="1927080"/>
            <a:ext cx="548316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nalysis of rater effects Sample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mand File for Multiface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77840" y="1501920"/>
            <a:ext cx="8891640" cy="5255640"/>
            <a:chOff x="177840" y="1501920"/>
            <a:chExt cx="8891640" cy="525564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3381480" y="2222640"/>
              <a:ext cx="5688000" cy="31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77840" y="1501920"/>
              <a:ext cx="3348000" cy="52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ame and location of data 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lumn location for rater code 1 and 2 Location of response blocks per rater (PO and TF rating)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aribale name crite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alid response co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core levels for each categ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evel of the facet (OP;TF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abel for that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sponses modelled by three parameters: rater harshness, criteria difficulty, step structure of respon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stimation of item response model (15 nod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splay of model estimation and data sav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splay of traditional item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2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nalysis of rater effects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nning the Multifaceted Sampl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8000" y="1446120"/>
            <a:ext cx="8713800" cy="4791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003640" y="3979800"/>
            <a:ext cx="3922920" cy="2725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851280" y="479736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nalysis of rater effects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Reported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orted information on the progress of estimation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.g. 33 of 66 ite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882648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nalysis of rater effects 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rameter Estimates for Rater Hars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22200" y="1773360"/>
            <a:ext cx="8353440" cy="4775040"/>
            <a:chOff x="322200" y="1773360"/>
            <a:chExt cx="8353440" cy="477504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395280" y="177336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22200" y="2852640"/>
              <a:ext cx="1800360" cy="2872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95640" y="3500280"/>
              <a:ext cx="718920" cy="2876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95640" y="3860640"/>
              <a:ext cx="718920" cy="2876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763640" y="4149360"/>
              <a:ext cx="503280" cy="1871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18320" y="2781360"/>
              <a:ext cx="2759040" cy="302400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43280" y="6070680"/>
              <a:ext cx="583236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Influence of raters´ harshness may move a student´s ability estimate by as much as one S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High mean square: unmodelled noise in the ratin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971640" y="6021360"/>
            <a:ext cx="1439640" cy="63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ff"/>
                </a:solidFill>
                <a:latin typeface="Arial"/>
              </a:rPr>
              <a:t>Range: 2.123 log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ff"/>
                </a:solidFill>
                <a:latin typeface="Arial"/>
              </a:rPr>
              <a:t>SD of latent distribution 2.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nalysis of rater effects 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rameter Estimates for th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24000" y="2205000"/>
            <a:ext cx="8373960" cy="2950920"/>
            <a:chOff x="324000" y="2205000"/>
            <a:chExt cx="8373960" cy="295092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22960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24000" y="2573280"/>
              <a:ext cx="1800000" cy="2872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79640" y="3005280"/>
              <a:ext cx="1152360" cy="57600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4000" y="4446720"/>
              <a:ext cx="2808000" cy="70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Range: 0.178 log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Small, but signific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Effectively one criteria difficulty estim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547640" y="3510000"/>
              <a:ext cx="432000" cy="936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2781360"/>
              <a:ext cx="2808360" cy="799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16360" y="4221000"/>
              <a:ext cx="3959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Mean squares less than one:  Dependency between crite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nalysis of rater effects </a:t>
            </a:r>
            <a:br>
              <a:rPr sz="40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rameter Estimates for the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24000" y="1989000"/>
            <a:ext cx="8351640" cy="3234960"/>
            <a:chOff x="324000" y="1989000"/>
            <a:chExt cx="8351640" cy="323496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684360" y="1989000"/>
              <a:ext cx="7313400" cy="18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24000" y="2241720"/>
              <a:ext cx="1800000" cy="2872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50920" y="2492280"/>
              <a:ext cx="1008360" cy="122400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2349360"/>
              <a:ext cx="2665440" cy="165600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16360" y="4441680"/>
              <a:ext cx="3959280" cy="78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Poor fit for the step parameters, especially for step 1 and 4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Need to allow for interaction between the step and the rater, the step and the criteria, or the step and both, rater and crite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8360" y="4368960"/>
              <a:ext cx="23749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Six response categories: </a:t>
              </a:r>
              <a:br>
                <a:rPr sz="1000"/>
              </a:b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estimation of four step parame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nalysis of rater effects 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p of 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84360" y="1630440"/>
            <a:ext cx="6302160" cy="4925880"/>
            <a:chOff x="684360" y="1630440"/>
            <a:chExt cx="6302160" cy="492588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2295360" y="1630440"/>
              <a:ext cx="4691160" cy="45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457360" y="6310080"/>
              <a:ext cx="4427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Variation of rater harshness &gt;&gt; Variation of difficulty in the two tas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5720" y="2011320"/>
              <a:ext cx="57636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ra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80080" y="2011320"/>
              <a:ext cx="647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crite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4360" y="1744560"/>
              <a:ext cx="143964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Each x represents 51.4 ca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at is ConQu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tem response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sch´s Simple Logistic Model (dichotom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ting Scale Model (multi-category response form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ial Credit Model (unique rating scale structure per it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rdered Partition Model (item response not completely orde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near Logistic Test Model (item parameter as linear combination of elementary parame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ultifaceted Models (additional parameters, e.g. rater-parame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neralised Unidimensional Models (fit mixtures of mode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ultidimensional Item Response Models (multiple latent dimens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tent Regression Models (direct regression estim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Quest brings together in a single program a wide variety of item response models (…) and provides an integration of item response and regression analysis.“ (Wu, Adams, Wilson &amp; Haldane,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ginal maximum likelihood estimates: assumption on the distribution of </a:t>
            </a:r>
            <a:r>
              <a:rPr b="0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5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nalysis of rater effects 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triction to one 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3440" y="1563840"/>
            <a:ext cx="8902800" cy="5200560"/>
            <a:chOff x="163440" y="1563840"/>
            <a:chExt cx="8902800" cy="520056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163440" y="1563840"/>
              <a:ext cx="5554800" cy="45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5399280" y="2776680"/>
              <a:ext cx="366696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46240" y="2273400"/>
              <a:ext cx="3600360" cy="4316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0600" y="2641680"/>
              <a:ext cx="1727280" cy="70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Hypothesis: raters´ OP and TF judgements are not independent </a:t>
              </a:r>
              <a:br>
                <a:rPr sz="1000"/>
              </a:br>
              <a:r>
                <a:rPr b="1" lang="de-DE" sz="10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 only OP is analy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38240" y="3713040"/>
              <a:ext cx="2303640" cy="2872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3"/>
            <a:stretch/>
          </p:blipFill>
          <p:spPr>
            <a:xfrm>
              <a:off x="5027760" y="5153040"/>
              <a:ext cx="4038480" cy="16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934240" y="1768320"/>
              <a:ext cx="2952720" cy="78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6040" indent="-176040">
                <a:spcBef>
                  <a:spcPts val="624"/>
                </a:spcBef>
                <a:buClr>
                  <a:srgbClr val="0000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Fit statistics are better for rater harshness and step parameter estima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spcBef>
                  <a:spcPts val="624"/>
                </a:spcBef>
                <a:buClr>
                  <a:srgbClr val="0000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Noisy behaviour of raters due to redundancy of the two crite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dimensional Latent Re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2-dim vs. 5-di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-dim partial cred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64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e choice test as 1st outcome (65 items) -&gt;  Dimen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chotom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umns 50-114 in dat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ded response as 2nd outcome (9 items) -&gt; Dimen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lyto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ums 1-9 in dat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Covari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 grade (1=lower, 2=upper); column 1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nder (0=female, 1=male); column 1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cio-economic status (composite indicator); column 122-1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wo-dimensional model –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6192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wo-dimensional model –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naly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34544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wo-dimensional PCM –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913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wo-dimensional model –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conditional analys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698508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dimensional latent re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2-dim vs. 5-di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-dim partial credit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64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ultiple choice test as 1st outcome (65 items) -&gt;  Dimens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otom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umns 50-114 in dat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 Extended response as other outcome (9 items each) -&gt; Dimension 2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tom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ums 1-18 and 31-49 in dat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 2: Force &amp;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 3: Light &amp; S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 4: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snion 5: Earth &amp;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 Covaria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 grade (1=lower, 2=upper); column 1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der (0=female, 1=male); column 1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-economic status (composite indicator); column 122-1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5-dimensional unconditional model – Command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201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5-dimensional unconditional model – Ou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691200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5-dim conditional mode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 Command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691200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at is ConQuest? 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gram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em response categories: 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em codes: 2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ber of generalised items for each case: 1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ponse model parameters: 3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tent dimensions: 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ments in each facet: 1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racters in a line of data and length of filename path: 307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es specified in a formal statement: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s in a model statement: 1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number of item steps is not limited except by system mem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5-dim conditional mode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 Output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698328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dimensional model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79280" y="2205000"/>
          <a:ext cx="8700840" cy="2328840"/>
        </p:xfrm>
        <a:graphic>
          <a:graphicData uri="http://schemas.openxmlformats.org/drawingml/2006/table">
            <a:tbl>
              <a:tblPr/>
              <a:tblGrid>
                <a:gridCol w="966600"/>
                <a:gridCol w="966960"/>
                <a:gridCol w="966600"/>
                <a:gridCol w="966960"/>
                <a:gridCol w="966600"/>
                <a:gridCol w="966960"/>
                <a:gridCol w="966600"/>
                <a:gridCol w="966960"/>
                <a:gridCol w="96660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d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d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. Resp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ce &amp; Mo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&amp; S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 &amp;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. V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hat is ConQuest? </a:t>
            </a:r>
            <a:br>
              <a:rPr sz="40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ultidimensional Item Response (MIR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Basic assumption of most IR models: unidimensiona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Many standardized tests are to measure different and uncorrelated tra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Modern practice requires examination of single performance from multiple perspecti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Multidimensional Random Coefficients Multinominal Logit Model (MRCMLM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set of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raits underlie the persons´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D latent traits define a D-dimensional late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persons´ positions in the D-dimensional latent space are represented by the vector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AT" sz="1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</a:t>
            </a:r>
            <a:r>
              <a:rPr b="0" lang="de-AT" sz="12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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000000"/>
                </a:solidFill>
                <a:latin typeface="Arial"/>
              </a:rPr>
              <a:t>Multidimensional Random Coefficients Multinominal Logit Model (1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2014560" cy="25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372360" y="3284640"/>
            <a:ext cx="2508120" cy="280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372360" y="2349360"/>
            <a:ext cx="1563480" cy="382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39640" y="3141720"/>
            <a:ext cx="4489560" cy="1147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50920" y="4365720"/>
            <a:ext cx="5838840" cy="1552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11280" y="2133720"/>
            <a:ext cx="4308480" cy="742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72360" y="3716280"/>
            <a:ext cx="1473120" cy="247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1332000" y="6308640"/>
            <a:ext cx="1743120" cy="292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453384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000000"/>
                </a:solidFill>
                <a:latin typeface="Arial"/>
              </a:rPr>
              <a:t>Multidimensional Random Coefficients Multinominal Logit Model (2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opulation model (distribution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means the latent abilities are  assumed to be multivariate normally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7561080" cy="84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7953120" cy="303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11280" y="4437000"/>
            <a:ext cx="36781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at is ConQuest? 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me applications of Con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Performing item analysis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(IR modelling-based information + traditional item statistic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xamining differential item functioning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(equality of item parameter estimates in multiple group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xploring rater effects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(consistency of different rate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stimating latent correlations and testing dimensionality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(corrleations between latent variables to be estimate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rawing plausible values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(deal with missing response dat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Dichotomously scored multiple choice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ultiple Choice Test als verbreitetes Testverfahren zur Prüfung von kognitiven Fähigkeit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nalyse von dichotomously scored multiple choice test &gt;&gt; einfachste Anwendung von ConQue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Beispiel 1: Rasch‘s simple logistic model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ate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12-item multiple choic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ichprobe: 1.000 Studen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e file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palten 1-5: Identifikationsnumm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palten 12-23: Antworten (a, b, c, d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Fehlende Antworten: 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6:03:54Z</dcterms:created>
  <dc:creator>b.pauer</dc:creator>
  <dc:description/>
  <dc:language>en-US</dc:language>
  <cp:lastModifiedBy>Standardinstallation IBM T61</cp:lastModifiedBy>
  <dcterms:modified xsi:type="dcterms:W3CDTF">2009-12-10T16:18:48Z</dcterms:modified>
  <cp:revision>23</cp:revision>
  <dc:subject/>
  <dc:title>Folie 1</dc:title>
</cp:coreProperties>
</file>